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648AF-CE2F-462B-AA1D-17F6637EB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C42F3-8E3D-4899-B924-E48F85D1F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B21B4-76CC-4B77-B344-9970FDEE1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48ADB-95E2-4D9B-81FE-6965A41D9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3C76C-AB2C-44CC-9F6A-77B4653F4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93E9-9BCE-49C8-BD4D-7B08EDB55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B86EE-4544-441A-B3FC-095C3D752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D5787-BB8D-42CE-AB5B-C2EAA38A5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C96B8-6453-4793-A7FD-8CEC63896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791DC-376D-4F94-8F15-22985ACCD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9542-4605-4619-93AD-4D2C1CEE0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DD99E-153D-48F5-9102-FF3E6B059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53C6-E57B-4CD7-814D-188D31A8A6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83808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bo</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y: Chicka and Ep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04920" y="456840"/>
            <a:ext cx="8153280" cy="617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die Mabo led a group of Meriam people (From Murray Islands) in a supreme court challenge against the Queensland government on the issue of land ownershi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3rd of June 1992, the High court of Australia delivered its landmark Mabo decision which re-wrote the Australian common law and gave a massive boost to the struggle for the recognition of Aboriginal land righ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igenous peoples land title or Native title, stems from the continuation within common law of their rights over land which pre-date European colonisation of Austral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 descr=""/>
          <p:cNvPicPr/>
          <p:nvPr/>
        </p:nvPicPr>
        <p:blipFill>
          <a:blip r:embed="rId1"/>
          <a:stretch/>
        </p:blipFill>
        <p:spPr>
          <a:xfrm>
            <a:off x="2438280" y="4495680"/>
            <a:ext cx="3048120" cy="203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udgement rejected the “Terra Nullius” legal fiction. On a ratio of 6:1 the High court ruled that the Australian common law required that indigenous rights to land had survived the simple acquisition of sovereignty of the continent by Britain, that the theory of “Terra Nullius” was inappropriate to apply to land which had so clearly been occupied. </a:t>
            </a:r>
            <a:endParaRPr b="0" lang="en-US" sz="2400" spc="-1" strike="noStrike">
              <a:solidFill>
                <a:srgbClr val="000000"/>
              </a:solidFill>
              <a:latin typeface="Arial"/>
            </a:endParaRPr>
          </a:p>
        </p:txBody>
      </p:sp>
      <p:pic>
        <p:nvPicPr>
          <p:cNvPr id="47" name="" descr=""/>
          <p:cNvPicPr/>
          <p:nvPr/>
        </p:nvPicPr>
        <p:blipFill>
          <a:blip r:embed="rId1"/>
          <a:stretch/>
        </p:blipFill>
        <p:spPr>
          <a:xfrm>
            <a:off x="4800600" y="3352680"/>
            <a:ext cx="4038480" cy="302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dges decla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Meriam people are entitled as against the whole world to possession, occupation, use of enjoyment of the land of the Murray Isla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as the first time that the high court had considered the position of, indiginous people in Australian property law and their judgement was not restricted to the Murray islands” (Justice Gerrad Brenna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5486400" y="4495680"/>
            <a:ext cx="2616120" cy="21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ve title act 1993 is the legislation that recognised the existence of Aboriginal Native title rights of Aboriginal federal law and the native title rights of Aboriginal people. The act came into force on the 1st of January 1994.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ct established a national Aboriginal and Torres Strait Islander Land fund for the purpose of enabling dispossessed Aboriginal people to acquire land. And also the National Native Title Tribu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ve title ac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only affect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ghly 3-4% of the total</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original popul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3657600" y="3048120"/>
            <a:ext cx="5486400" cy="344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03:24:13Z</dcterms:created>
  <dc:creator>MD Anderson Cancer Center</dc:creator>
  <dc:description/>
  <dc:language>en-US</dc:language>
  <cp:lastModifiedBy>MD Anderson Cancer Center</cp:lastModifiedBy>
  <dcterms:modified xsi:type="dcterms:W3CDTF">2010-11-25T02:47:02Z</dcterms:modified>
  <cp:revision>4</cp:revision>
  <dc:subject/>
  <dc:title>Mabo</dc:title>
</cp:coreProperties>
</file>